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128-5A88-4BEB-8076-E9678982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795-E9FA-4867-9E10-03B2F578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498-10B6-4B50-8075-F1554BBE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19B-2B5C-4396-B8E1-98F0F584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35A-0487-456E-BDE4-3D5B7CD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A30-7171-419B-BE7B-8A9851F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744-B7E2-4220-937C-35BAD93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9A1-03C8-4220-AA69-5B1ABF6E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BDE-C773-40E7-934D-DA4E348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940-12A7-4B04-93A4-75D9485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404-2B86-47AC-B16B-C60CD10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673-A607-49B7-AC13-F142229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FAF-E6DD-415B-A3CB-3472190FF9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4284720" y="134136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79640" y="2708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Arial"/>
              </a:rPr>
              <a:t>Powrót do granic przedrozbiorowych. Ponadto utworzenie w Europie wschodniej bloku niepodległych państw: Ukrainy, Białorusi, Litwy stanowiących zaporę dla ekspansji Z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1:30:17Z</dcterms:created>
  <dc:creator>rjuraszczyk</dc:creator>
  <dc:description/>
  <dc:language>en-US</dc:language>
  <cp:lastModifiedBy>IB</cp:lastModifiedBy>
  <dcterms:modified xsi:type="dcterms:W3CDTF">2013-03-14T17:20:25Z</dcterms:modified>
  <cp:revision>5</cp:revision>
  <dc:subject/>
  <dc:title>Koncepcja granic Józefa Piłsudsiego</dc:title>
</cp:coreProperties>
</file>